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6DA-8717-47B4-9147-80EFF4E8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2FD-EEBC-4579-98D9-299EC97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72E-E0CD-4296-B332-28A629E1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E11-650D-437D-B847-B705E7EF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9A6-5E68-4BF5-BC2B-95F5C19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545-FEBA-459C-BA54-7CC8A3D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61C-C83B-40A6-A91C-ACAAE0A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937-27FF-4BB8-A6C2-274B3E8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748-6D82-496C-9AC7-AE80D9E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CB7-642C-45F1-B482-7BFC428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91B-8391-4BAF-8B60-763E1C1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C28-25CA-4902-A015-2451026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2A6-0AB6-4C4B-B471-E348BA69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rtland.edu/APENS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8580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Become a </a:t>
            </a: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ertified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dapted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hysical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VAG Rounded Thin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VAG Rounded Thin"/>
              </a:rPr>
              <a:t>ducator</a:t>
            </a:r>
            <a:r>
              <a:rPr b="0" lang="en-US" sz="5400" spc="-1" strike="noStrike">
                <a:solidFill>
                  <a:srgbClr val="000000"/>
                </a:solidFill>
                <a:latin typeface="VAG Rounded Thi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5715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AG Rounded Thin"/>
              </a:rPr>
              <a:t>Take the Adapted Physical Education National Standards Exam (APENS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7924680"/>
            <a:ext cx="586728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91120"/>
            <a:ext cx="6194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PENS National Exam Dat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urday, June 3rd,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pplication deadline is April 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600" y="5334120"/>
            <a:ext cx="673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ould like more information regarding the APENS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Manual, APENS Study Guide, or APENS Applic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visit our web site at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cortland.edu/APE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:   Timothy D. Davis, Ph.D., 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NS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Y Cor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land, NY 13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888-APENS-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or 607-753-4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AG Rounded Thin"/>
              </a:rPr>
              <a:t>Do you know you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AG Rounded Thin"/>
              </a:rPr>
              <a:t>APENS Standards?</a:t>
            </a:r>
            <a:br>
              <a:rPr sz="1800"/>
            </a:br>
            <a:br>
              <a:rPr sz="1800"/>
            </a:br>
            <a:r>
              <a:rPr b="1" lang="en-US" sz="6000" spc="-1" strike="noStrike">
                <a:solidFill>
                  <a:srgbClr val="ff0000"/>
                </a:solidFill>
                <a:latin typeface="VAG Rounded Thin"/>
              </a:rPr>
              <a:t>Take the </a:t>
            </a:r>
            <a:br>
              <a:rPr sz="6000"/>
            </a:br>
            <a:r>
              <a:rPr b="1" lang="en-US" sz="6000" spc="-1" strike="noStrike" u="sng">
                <a:solidFill>
                  <a:srgbClr val="ff0000"/>
                </a:solidFill>
                <a:uFillTx/>
                <a:latin typeface="VAG Rounded Thin"/>
              </a:rPr>
              <a:t>APENS EXAM</a:t>
            </a:r>
            <a:r>
              <a:rPr b="1" lang="en-US" sz="6000" spc="-1" strike="noStrike">
                <a:solidFill>
                  <a:srgbClr val="ff0000"/>
                </a:solidFill>
                <a:latin typeface="VAG Rounded Thin"/>
              </a:rPr>
              <a:t> Saturday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63244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AG Rounded Thin"/>
              </a:rPr>
              <a:t>ON SITE REGISTRATIO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AG Rounded Thin"/>
              </a:rPr>
              <a:t>WALK-INS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7772400"/>
            <a:ext cx="586728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4952880"/>
            <a:ext cx="49752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AM - 12 (No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tion Center: N 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32:54Z</dcterms:created>
  <dc:creator>SUNY Cortland</dc:creator>
  <dc:description/>
  <dc:language>en-US</dc:language>
  <cp:lastModifiedBy>cstopka</cp:lastModifiedBy>
  <dcterms:modified xsi:type="dcterms:W3CDTF">2005-08-19T16:20:43Z</dcterms:modified>
  <cp:revision>8</cp:revision>
  <dc:subject/>
  <dc:title>Become a  Certified Adapted Physical Educato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7664658</vt:r8>
  </property>
  <property fmtid="{D5CDD505-2E9C-101B-9397-08002B2CF9AE}" pid="3" name="_AuthorEmail">
    <vt:lpwstr>DAVIST@cortland.edu</vt:lpwstr>
  </property>
  <property fmtid="{D5CDD505-2E9C-101B-9397-08002B2CF9AE}" pid="4" name="_AuthorEmailDisplayName">
    <vt:lpwstr>Timothy Davis</vt:lpwstr>
  </property>
  <property fmtid="{D5CDD505-2E9C-101B-9397-08002B2CF9AE}" pid="5" name="_EmailSubject">
    <vt:lpwstr>APENS flier</vt:lpwstr>
  </property>
</Properties>
</file>